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F23-321B-4514-8FCA-A818A2D5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A24-8528-4C0B-9A52-AB18564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9BB-7E36-414F-8E13-3EB4D5E8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99D-0D56-41BF-BD01-549E5DB2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38D-55E4-404E-8960-03FD58A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7E1-F35C-4F43-8173-E8B0123E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A6D-B64B-4143-91A5-514706A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A1C-2A52-49A7-A1E7-31CB78A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D91-3267-47A7-A4AC-A1C0CC34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1C2-4395-45F1-986E-3FBF333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E1D-8BF7-460C-B8E9-6EFBCB1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E06-858C-44AE-82D8-2E36F29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250-91D4-4BF6-82A0-396A564CE0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43280" y="2637000"/>
            <a:ext cx="2736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141200">
            <a:off x="179280" y="1268280"/>
            <a:ext cx="2843280" cy="1871640"/>
          </a:xfrm>
          <a:prstGeom prst="rightArrow">
            <a:avLst>
              <a:gd name="adj1" fmla="val 50000"/>
              <a:gd name="adj2" fmla="val 3797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40200" y="244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09000">
            <a:off x="0" y="3860280"/>
            <a:ext cx="3382920" cy="1800360"/>
          </a:xfrm>
          <a:prstGeom prst="rightArrow">
            <a:avLst>
              <a:gd name="adj1" fmla="val 50000"/>
              <a:gd name="adj2" fmla="val 469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03640" y="1267920"/>
            <a:ext cx="17290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005360"/>
            <a:ext cx="11509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651640" y="2852280"/>
            <a:ext cx="21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3716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836640"/>
            <a:ext cx="115236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2276640"/>
            <a:ext cx="1130400" cy="115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292640"/>
            <a:ext cx="115272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157720"/>
            <a:ext cx="122400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5877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5705640"/>
            <a:ext cx="1547640" cy="11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0Z</dcterms:created>
  <dc:creator>studente</dc:creator>
  <dc:description/>
  <dc:language>en-US</dc:language>
  <cp:lastModifiedBy>studente</cp:lastModifiedBy>
  <dcterms:modified xsi:type="dcterms:W3CDTF">2017-01-09T08:52:28Z</dcterms:modified>
  <cp:revision>5</cp:revision>
  <dc:subject/>
  <dc:title>Diapositiva 1</dc:title>
</cp:coreProperties>
</file>